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F0386-3B3F-4ECD-895A-CEB873087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D3768-B1B3-4888-98B5-A70A73CBE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DD26A-748E-46C5-A609-FAE4E56D6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55DDE-70A9-4978-9942-8393CE378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46E9D-3EA4-4052-A41D-614B30365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A5BF4-B535-49F7-A4F5-19C7E5E4F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FBFF1-FA73-4578-AD2D-5E361EFAB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D0EC8-426E-4D7C-BAF0-F3E3103F8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1732C-90E8-46CD-842F-6B39EE0CE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6E041-91FE-4DFD-81B8-A454AE4D1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260C9-CC55-4900-A3D6-AC9A259D8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7A938-8D14-4160-8A0F-C3FE1C4CA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4C1FF-1F07-44F4-96FA-56A46ED92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F1EEF-BB6C-4EA6-ACD1-0E12C79B0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C56DB-1271-408A-AD9E-31A5A9DF9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D1211-0D2A-4FC3-BD1D-6CCDED8FD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D45E7-A4F7-4F6C-AE99-363825AAC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DA728-968B-4F63-87A3-5BF0C8738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BF7FC-4B93-4B40-A89D-EE05B9B1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44950-AF0C-4506-9E47-D628C7684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C80D7-A3EA-41AD-91A5-288AAB4CF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3BCDF-3494-4339-87C6-236F25F16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7CE6-D603-4C29-99FE-C193E0FC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61D8-E3C3-41F3-9DBA-B1781BE6C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5349-FF07-4467-BFAA-783CD4D0101B}"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DD24-CEC2-483B-92AA-42E46C76895F}"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iseño e implementación</a:t>
            </a:r>
            <a:endParaRPr b="0" lang="en-US" sz="4400" spc="-1" strike="noStrike">
              <a:solidFill>
                <a:srgbClr val="333399"/>
              </a:solidFill>
              <a:latin typeface="Tahoma"/>
            </a:endParaRPr>
          </a:p>
        </p:txBody>
      </p:sp>
      <p:sp>
        <p:nvSpPr>
          <p:cNvPr id="123" name="PlaceHolder 2"/>
          <p:cNvSpPr>
            <a:spLocks noGrp="1"/>
          </p:cNvSpPr>
          <p:nvPr>
            <p:ph/>
          </p:nvPr>
        </p:nvSpPr>
        <p:spPr>
          <a:xfrm>
            <a:off x="0" y="1981080"/>
            <a:ext cx="9144000" cy="649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principales de JSD</a:t>
            </a:r>
            <a:endParaRPr b="0" lang="en-US" sz="2800" spc="-1" strike="noStrike">
              <a:solidFill>
                <a:srgbClr val="000000"/>
              </a:solidFill>
              <a:latin typeface="Tahoma"/>
            </a:endParaRPr>
          </a:p>
        </p:txBody>
      </p:sp>
      <p:sp>
        <p:nvSpPr>
          <p:cNvPr id="124" name=""/>
          <p:cNvSpPr/>
          <p:nvPr/>
        </p:nvSpPr>
        <p:spPr>
          <a:xfrm>
            <a:off x="205272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25" name="ElementosPrincipales" descr=""/>
          <p:cNvPicPr/>
          <p:nvPr/>
        </p:nvPicPr>
        <p:blipFill>
          <a:blip r:embed="rId1"/>
          <a:stretch/>
        </p:blipFill>
        <p:spPr>
          <a:xfrm>
            <a:off x="990720" y="2666880"/>
            <a:ext cx="73152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una API para la visualiz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diversas API’s en este campo pero o bien son comerciales o bien no cumplen con las características necesari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s API’s no disponen de métodos de extensión estándar, nuestro código resultaría excesivamente acoplado con estas AP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la creación de una API para la cre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 API debe proporcionar tanto un interfaz para el programador como un interfaz de usuari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disponer de mecanismos de extensión estándar: a través de Sw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n definir los puntos de extensión necesarios para la creación de cualquier tipo de diagram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urante esta primera fase se estudiaron diversos API’s y aplicaciones para el diseño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one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OficceDraw</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icrosoft Visio</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JGrahp</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Fil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F.</a:t>
            </a:r>
            <a:endParaRPr b="0" lang="en-US" sz="2000" spc="-1" strike="noStrike">
              <a:solidFill>
                <a:srgbClr val="000000"/>
              </a:solidFill>
              <a:latin typeface="Tahoma"/>
            </a:endParaRPr>
          </a:p>
        </p:txBody>
      </p:sp>
      <p:sp>
        <p:nvSpPr>
          <p:cNvPr id="108" name=""/>
          <p:cNvSpPr/>
          <p:nvPr/>
        </p:nvSpPr>
        <p:spPr>
          <a:xfrm>
            <a:off x="15840" y="15840"/>
            <a:ext cx="9128160" cy="11019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e trata de enumerar los API’s que se han analizado en la memoria, mencionando que se han visto otros muchos pero se han cogido estos por resultar los más representantivos. Explicar que de las aplicaciones interesaba todo lo relativo con la interfaz de usuario y en las API’s interesaba por un lado la interacción con el usuario y por otro lado el tema de la facilidad de uso, extensibilidad estándar mediante swing, si son de pago o no etc,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rencias detectadas</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plicacion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de codos en conectores, estos se pintan de forma automátic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arbitraria de puertos, los puertos están predeterminados y limitado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ponentes Swing no pueden formar parte del diagram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s que mejor cumplen los requisitos son de pago.</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1" name=""/>
          <p:cNvSpPr/>
          <p:nvPr/>
        </p:nvSpPr>
        <p:spPr>
          <a:xfrm>
            <a:off x="5638680" y="304920"/>
            <a:ext cx="3505320" cy="3848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Intente poner las tablas, pero una tabla por transparencia y me salían demasiadas transparencias, y una tabla con todo no hay forma de ponerla porque no cabe</a:t>
            </a:r>
            <a:r>
              <a:rPr b="1" lang="es-E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pongo las carencias detectadas en las apicaciones y Apis que se han visto que para el caso es lo mismo que ir poniendo las tablas. Habría que explicar que en las aplicaciones no se permite el tema de los conectores y los puertos, y para las api’s decir que no se pueden incluir componentes swing como partes del diagrama, es siempre necesario heredar de alguna clase propia de la API por lo que el código resulta más acoplado como se mencionaba en la introducción. Luego decir que las mejores API’s son de pago, yFiles por ejempl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metodología seguida para el desarrollo de este proyecto a sido Extreme Programm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quipo de desarrollo formado por una persona. </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adecuada una metodología que integre al usuario final en el desarrollo.</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importante disponer de versiones funcionando a medida que se avanza en el desarrollo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
          <p:cNvSpPr/>
          <p:nvPr/>
        </p:nvSpPr>
        <p:spPr>
          <a:xfrm>
            <a:off x="15840" y="15840"/>
            <a:ext cx="897588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mplemente contar que se ha elegido Extreme programing enumerando muy por encima las caracteristicas de esta metodología y exponer la justificación de la ele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ecnologías utilizadas dentro del desarrollo de JS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gramación Orientada a Objeto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Jav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w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XML (JaxP)</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VG (Bati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
          <p:cNvSpPr/>
          <p:nvPr/>
        </p:nvSpPr>
        <p:spPr>
          <a:xfrm>
            <a:off x="15840" y="15840"/>
            <a:ext cx="882324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entar brevemente las tecnologías que se han utilizado en el desarrollo del proyecto, justificando el uso de cada una de ell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15:28:56Z</dcterms:created>
  <dc:creator>alfredo</dc:creator>
  <dc:description/>
  <dc:language>en-US</dc:language>
  <cp:lastModifiedBy>alfredo</cp:lastModifiedBy>
  <dcterms:modified xsi:type="dcterms:W3CDTF">2004-09-20T00:05:41Z</dcterms:modified>
  <cp:revision>2</cp:revision>
  <dc:subject/>
  <dc:title>JSD: API Para La Creación Y Manipulación De Diagramas</dc:title>
</cp:coreProperties>
</file>